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7CA8-DDF9-441C-8DEB-24AE10B717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99DC-AADA-4966-8862-6F50F490A446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ED39-442E-4D38-906A-5175149F15B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77BB-0E68-4FCF-B659-2655B2E4A6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D03D-FEFB-430E-B0FC-EF62E843AB3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DA33-CB35-4201-A62E-0314D9570FE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E6D9-C429-47C2-9B80-0A6322A5531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70DF-6306-49C4-964D-730636B1C70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314-B1A9-4542-A0F3-CFBD4661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3E0-99E2-4CBC-95C1-8EC07B1E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BAF-25F6-4C2C-ADD9-746EF612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CD6-A0AA-40CD-B405-0D783DDB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CD6-0661-4B7B-B2C7-4FE639D0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79F-B0B7-425D-9837-A4EBE00F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73C-0CA9-4BEC-9AA8-D27454C6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EBD-AF7E-47F1-A8E2-600A003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2A4-D671-4980-BB46-CF941E6D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147-0751-4A5A-B023-FCF8D55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851-0668-49D5-AC5F-E6C143AF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D6E-3919-40BB-9F64-29F86C3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274F-0F70-443A-836E-DD6168854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89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1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2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3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1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2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3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9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5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1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2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Алена Александровна Кандеева</cp:lastModifiedBy>
  <cp:lastPrinted>2018-12-10T14:36:03Z</cp:lastPrinted>
  <dcterms:modified xsi:type="dcterms:W3CDTF">2021-12-21T03:13:57Z</dcterms:modified>
  <cp:revision>176</cp:revision>
  <dc:subject/>
  <dc:title>Презентация PowerPoint</dc:title>
</cp:coreProperties>
</file>